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3F1-99DB-4FB1-88EA-157EA9BB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85D-43A4-45AB-9126-9EAD75B9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E35-40E8-47BF-8060-C503EF1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729-F116-49E6-9B30-E43EF6F8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9F8-1BFB-428E-96D4-A4A5313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D61-5900-410F-8A95-4F129A18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593-92FC-4431-B7BE-098BF21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892-5BBB-4C87-9BC7-0C11C035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615-C8A1-42F1-8B34-55F7A19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A27-754D-4817-962E-518A0F0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7B3-BB44-4733-9DBF-50E2E39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D91-58D5-496D-A56C-C770037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C33-6B77-41F8-8886-0DB96875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ytimes.com/learning/students/pop/articles/10korea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ig Caslon"/>
              </a:rPr>
              <a:t>Current Events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Big Caslon"/>
              </a:rPr>
              <a:t>October 16,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g Caslon"/>
              </a:rPr>
              <a:t>Modern Worl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g Caslon"/>
              </a:rPr>
              <a:t>Caitlin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g Caslon"/>
              </a:rPr>
              <a:t>North Korea Tests Nuclear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North Korea announced last Monday that it tested a nuclear wea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The U.S. called on the United Nations Security Council to take swift, strong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Russia &amp; China (key votes) were reluctant to go along because of possibl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Compromise resolution reached Satur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 Caslon"/>
              </a:rPr>
              <a:t>bans sale of materials for nuclear, biological and chemical weapons or ballistic miss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 Caslon"/>
              </a:rPr>
              <a:t>Allows inspections of cargo going in and out of Nor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2590560" cy="256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4267080"/>
            <a:ext cx="312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Big Caslon"/>
              </a:rPr>
              <a:t>IKONOS satellite image of the Yongbyon nuclear facility, located about 100 kms (62 miles) north of Pyongyang, taken August 13, 2002. [Reuter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hinadaily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g Caslon"/>
              </a:rPr>
              <a:t>Significance of N. Korean Nuclear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North Korea has long range missiles that could possibly reach the west coast of the U.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Bush warned North Korea not to export any nuclear materials to foreign countries or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U.S. is worried about North Korea as a threat to our key allies in the region (Japan and South Ko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Could set off a nuclear arms race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Democrats are using the news to criticize Republicans for being distracted by Ir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6708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5880" y="38098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968640"/>
            <a:ext cx="3047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uth Korean riot policemen stand guard during an anti-North Korean rally in Seoul October 9, 2006.  [Reuter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hinadaily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ig Caslon"/>
              </a:rPr>
              <a:t>Muhammad Yunus Wins Nobel Peace Priz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0920" y="175248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Won prize along with the bank he runs, Grameen Bank in Banglad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Bank gives </a:t>
            </a:r>
            <a:r>
              <a:rPr b="1" lang="en-US" sz="2400" spc="-1" strike="noStrike">
                <a:solidFill>
                  <a:srgbClr val="000000"/>
                </a:solidFill>
                <a:latin typeface="Big Caslon"/>
              </a:rPr>
              <a:t>microloans</a:t>
            </a: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, small loans (as little as $12) to millions of poor people to start up small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Most loans go to women, who have very little power in Bangladesh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Continues trend with the Peace Prize- awarded not for conflict resolution, but for developm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99080"/>
            <a:ext cx="32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hammad Yunus talking to 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: Stuart P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pb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559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g Caslon"/>
              </a:rPr>
              <a:t>Impact of Micro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76360" y="114264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 Caslon"/>
              </a:rPr>
              <a:t>How Yunus’ microloan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No collateral or down payment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Loans repaid in manageable weekly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used to buy things like milking cows, bamboo to make stools, yarn for weaving, </a:t>
            </a: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cell phones to sell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Has been an empowering force especially in places</a:t>
            </a: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 where women in particular have to struggle against repressive social and economic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According to Microcredit Summit, in 2005, more than 100 million people worldwide received microloans from more than 3,100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5720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14600" cy="167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819520"/>
            <a:ext cx="28958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 Caslon"/>
              </a:rPr>
              <a:t>A woman with a cell phone financed through Grameen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 Caslon"/>
              </a:rPr>
              <a:t>http://www.lnd.dk/conta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00844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019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g Caslon"/>
              </a:rPr>
              <a:t>http://media.maps.com/magellan/Images/INDIA-W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g Caslon"/>
              </a:rPr>
              <a:t>Person of the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14560" cy="3944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199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igischool.nl/kleioscoop/kofi%20ann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1600200"/>
            <a:ext cx="396252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g Caslon"/>
              </a:rPr>
              <a:t>Kofi An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Secretary-General of the United N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Originally from Ghana, in West Afr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won Nobel Peace Prize in 200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Big Caslon"/>
              </a:rPr>
              <a:t>his term is over and he will be replaced by  Ban Ki-moon, Foreign Minister of South Kor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ig Casl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267080" cy="2836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276720"/>
            <a:ext cx="80773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Issue</a:t>
            </a: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: Pope Benedict’s controversial speech on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Labels:</a:t>
            </a: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The newspaper “Islam Remarks” refers to the Pope’s speech, the tank is labelled “Benedict XVI” (the P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Exaggeration:</a:t>
            </a: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The</a:t>
            </a:r>
            <a:r>
              <a:rPr b="0" i="1" lang="en-US" sz="2000" spc="-1" strike="noStrike">
                <a:solidFill>
                  <a:srgbClr val="000000"/>
                </a:solidFill>
                <a:latin typeface="Big Caslon"/>
              </a:rPr>
              <a:t> tank</a:t>
            </a: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makes a point about the strong security the Pope will need when he travels to Turkey (a predominantly Muslim 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g Caslon"/>
              </a:rPr>
              <a:t>Viewpoint:</a:t>
            </a: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 The Pope’s remarks created a lot of anger among Muslims and damaged to the relationship between Catholicism and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236232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g Caslon"/>
              </a:rPr>
              <a:t>http://www.cagle.com/news/PopeRemarks/4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ig Cas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ig Caslon"/>
              </a:rPr>
              <a:t>Shanghai Daily</a:t>
            </a:r>
            <a:r>
              <a:rPr b="0" lang="en-US" sz="3000" spc="-1" strike="noStrike">
                <a:solidFill>
                  <a:srgbClr val="000000"/>
                </a:solidFill>
                <a:latin typeface="Big Caslon"/>
              </a:rPr>
              <a:t> on North Korean Nuclear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China voted in favor of the U.N. resolution on sanctions toward N. Ko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China’s U.N. representative stressed that the sanctions can be lifted if N. Korea meets the demands and said China was reluctant about inspecting carg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China is committed to resolving the nuclear issue without resorting to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g Caslon"/>
              </a:rPr>
              <a:t>China has been monitoring air quality, but so far has detected no nuclea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19600" cy="259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10080" y="4724280"/>
            <a:ext cx="335304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g Caslon"/>
              </a:rPr>
              <a:t>A North Korean soldier and his dog guard a Korean army installation near the North Korean town of Sinuiju, close to the Chinese border city of Dandong, October 9, 2006.  [Reuter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hinadaily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Extra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g Caslon"/>
              </a:rPr>
              <a:t>News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News Story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ig Caslon"/>
                <a:hlinkClick r:id="rId1"/>
              </a:rPr>
              <a:t>http://www.nytimes.com/learning/students/pop/articles/10kore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http://www.nytimes.com/learning/students/pop/articles/15nation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News Story 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http://www.nytimes.com/learning/students/pop/articles/14no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Person of the W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ig Caslon"/>
              </a:rPr>
              <a:t>http://www.un.org/News/ossg/sg/pages/sg_biography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 Caslon"/>
              </a:rPr>
              <a:t>Extra Cred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 Caslo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ig Caslon"/>
              </a:rPr>
              <a:t>http://english.eastday.com/eastday/englishedition/node20676/userobject1ai237797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2:55:41Z</dcterms:created>
  <dc:creator>Yarmouth Schools</dc:creator>
  <dc:description/>
  <cp:keywords/>
  <dc:language>en-US</dc:language>
  <cp:lastModifiedBy>Yarmouth Schools</cp:lastModifiedBy>
  <cp:lastPrinted>2006-10-16T13:23:29Z</cp:lastPrinted>
  <dcterms:modified xsi:type="dcterms:W3CDTF">2007-08-24T01:18:45Z</dcterms:modified>
  <cp:revision>57</cp:revision>
  <dc:subject/>
  <dc:title>PowerPoint Presentation  -  Current Events October 2006</dc:title>
</cp:coreProperties>
</file>